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5160" y="739440"/>
            <a:ext cx="5345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E4D-7994-4B08-9A74-EA09B0D9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BC7-3DF0-47BA-9F74-25BF3EFC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C600-90D5-468A-98CD-2BA666B9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6530-8087-49E1-86AE-89E6A51E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73AC-7379-40D2-90CB-83376454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DB33-87E6-4A6C-A38D-E1DF01E4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9F4-A7F8-4DF1-8FEE-EFE816732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65C6-A48D-4698-8C9A-4791A17B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056-5867-427A-A706-C9CEA5E0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74C-2C1B-4DA3-8648-C222BE87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5CA-429A-4DC9-87F2-E08B9B74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774-2268-4C2F-BE35-A3B7485C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719-C256-4FE0-B436-EF45C60B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4555-A6AB-4541-B1FB-8AFAD5937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5D0-02B4-413A-AAAE-4B7D859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30B-FC41-4A9A-B463-0FF5D994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335-BFCB-424E-B1F5-1096E026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D95-BC4B-4B5F-BD31-D4B080CA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AF6-FCEF-4C17-A7D9-B6321BEC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EB6-2920-47B4-AE63-DAD60C48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1C3-9EE0-441B-8174-98BD43C6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372-635A-48C6-B901-C8D2992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3D4-98E0-4F6F-B7D9-410B5FB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BF3-EF22-4BD2-9637-1CA22C7C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389-AC6D-4B4F-8213-3E9F96E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F1D-B05E-4C7B-AA43-03628D6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8C7-3FEC-4CD3-A00F-AD059482F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Georgia"/>
              </a:rPr>
              <a:t>Gloucestershire Firs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12880" y="2852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enius Regio Project EUR-EM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368520" y="371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5 March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04520" y="620640"/>
            <a:ext cx="8420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nnover –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stry of Education Lower Sax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nah-Arendt School (specialised admin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ufsbildende Schulen Neustadt (Mechanics, Construction, Bakery, Catering,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nover Chamber of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steras -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hrska Gymnasiet(Co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developing links through a Jules Verne scholar at Stroud College who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Head of a Technical Department in Bayonne, France nex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76160" y="476280"/>
            <a:ext cx="8420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line Time Line of 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 – Vasteras Preparatory visit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– Submission of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e – Hannover Preparatory visit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t/Nov –Hannover students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/Mar –Vasteras students to G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e – Glos students to Han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pt – Glos students to Vaste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– End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04520" y="4762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c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er awareness of programme amongst students, colleges,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d language compe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er cultural awareness and understanding amongst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al material/advocates for future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d business 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work placement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 an appetite for other mobility programmes e.g. VET, Enterpris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a programme for participation in the Erasmus Young Entrepreneur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ion of international work within a wider ‘employability’ pi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Documents and Settings\schaplin\Local Settings\Temporary Internet Files\Content.IE5\EDWQNB33\MC900434471[1].wmf"/>
          <p:cNvPicPr/>
          <p:nvPr/>
        </p:nvPicPr>
        <p:blipFill>
          <a:blip r:embed="rId2"/>
          <a:stretch/>
        </p:blipFill>
        <p:spPr>
          <a:xfrm>
            <a:off x="1136520" y="981000"/>
            <a:ext cx="7716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42680" y="428400"/>
            <a:ext cx="8420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rope 202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U's growth strategy for the coming decade.  It aims to make the E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deliver high levels of employment, productivity and social cohesion.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set 5 ambitious objectives - on employment, innovation, education, social inclusion and climate/energy - to be reached by 2020. Each Member State will adopt its own national targets in each of these ar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452520" y="285840"/>
            <a:ext cx="9001080" cy="63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Em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5% of the 20-64 year-olds to be employ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R&amp;D / 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% of the EU's GDP (public and private combined) to be inv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&amp;D/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Climate change /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enhouse gas emissions 20% (or even 30%, if the conditions are right) low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 19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% of energy from renew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% increase in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ing school drop-out rates below 10% at least 40% of 30-34–year-o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ing third level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Poverty / soci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least 20 million fewer people in or at risk of poverty and soci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60520" y="476280"/>
            <a:ext cx="77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bjectives are addressed by 7 flagship initia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mart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 agenda for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novation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on the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stainabl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efficient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industrial policy for the globalisation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agenda for new skills and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uropean platform against pov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04520" y="404640"/>
            <a:ext cx="8420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 on the Mov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ms to increase the chances of young people f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job by enhancing student and trainee mobility and improving the qualit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activeness of education and training in Europe. It will do this throug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edicated Youth on the Move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ation of non formal/inform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ion of a Mobility scorecard for nation states and individual cards for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volunteering programmes for young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of the EURES intranet to promote jobs ab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streaming Erasmus for Young Entrepreneur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 of apprentice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abl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l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oung people to access work 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orm and increased take up of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stering international exchange and co-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60160" y="765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sors work experience in an EU country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Vocational Training(IVT) 2 – 29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rentices or full or part time students up to N/SVQ lev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ople in the Labour market (PLM) 2 – 26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ployed, self employed, work based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cational Education and Training Professionals (VETPRO) 1 – 6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ployees in business or training environment delivering training, professional 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 career adv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nts contribute to project management, travel and living costs, also prepa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language and cultural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60160" y="549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loucestershire JET(Job Employment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ject A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 strategic approach to international work placement to match other ‘employability’ initiatives and share with partn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intelligence and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 and cultural awarenes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ity and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on and follow on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31440" y="62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volve thirty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year engineering, construction and business/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nistration students from 3 Gloucestershire FE colleges in 3 week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ments with companies in Hannover in Germany and Vasteras in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a 2 year period.  Using Preparatory Visits, contacts have already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ed wi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W and the City Municipality in Ha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B and an IT subsidiary in Vast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ucester Cathedral and the Stroud Canal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04520" y="475920"/>
            <a:ext cx="84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K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group of stakeholders has been established to progress the project mad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First – the County’s Economic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ucester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u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st of Dean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of Gloucester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Educatio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ucational Business Partner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ddition to the JET project, the group is working on general ‘employabilit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3:02Z</dcterms:created>
  <dc:creator>Liz Wheatley</dc:creator>
  <dc:description/>
  <dc:language>en-US</dc:language>
  <cp:lastModifiedBy> </cp:lastModifiedBy>
  <dcterms:modified xsi:type="dcterms:W3CDTF">2011-04-27T18:26:56Z</dcterms:modified>
  <cp:revision>73</cp:revision>
  <dc:subject/>
  <dc:title>Gloucestershire First</dc:title>
</cp:coreProperties>
</file>